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287-BA4E-4E85-8F1A-A2290430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F98-1E1B-4AFF-8458-EC421F9A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33D-E69F-4B15-9AAC-D6E36489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7A3-DBDA-4EEE-9131-E163908F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ABA-31B2-4FAF-902C-B50230F0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833-36D2-45E9-8504-B824AE36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2EC-6188-46DE-972F-DE42DD5C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EA2-1C08-4624-BFE2-2E412085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F8B-B094-4082-BD55-E9D5BA4A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0D7-B739-4E06-AC62-BAA7062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1B1-4E04-4313-90CA-1F9298C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ADE-EF42-4C64-9EF5-825691CD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FAD9-51EB-4F16-A25F-2D32DE242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5:03:15Z</dcterms:created>
  <dc:creator>Alumno</dc:creator>
  <dc:description/>
  <dc:language>en-US</dc:language>
  <cp:lastModifiedBy>INVES-S6600A</cp:lastModifiedBy>
  <dcterms:modified xsi:type="dcterms:W3CDTF">2010-11-17T19:10:47Z</dcterms:modified>
  <cp:revision>3</cp:revision>
  <dc:subject/>
  <dc:title>Diapositiva 1</dc:title>
</cp:coreProperties>
</file>